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B86-C872-412A-B544-975C627D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493-48DE-40E3-AF01-6D83C468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2CA52-3C13-47E6-BFFE-FE647B27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80F35-66EE-46BE-81EF-79FEA28B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08F63-EC16-4E10-86D0-FB53AE9D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6B0A9-2AAC-48B8-9343-E9A25DCB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A2414-59B6-414F-A3A7-29A35DCE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50492-3813-4939-8361-7E620F5E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D41D9-C893-4A7B-A13B-C7FB4F43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EE352-C554-4269-932D-CE591597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814D8-0B90-4F45-8A44-031693BF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0593B-832B-4611-9050-96840D76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535-7F15-4AB9-A274-122584C4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E72A4-A7C7-41B1-8601-84546016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A0C50-F0D7-4518-BE8B-70B069D3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2D270-3F4A-4DB6-BFFC-B82F31B0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38C26-837A-4CDB-A096-63EBD38E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640F1-DEA9-4C63-870B-51EB0859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FA9B6-F15F-415D-A5D4-5D0FCD17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29380-C4C9-4B28-8DA5-E869325C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71FF3-F813-4EF6-8AC1-9ED29CBA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5961E-9D7C-4EDE-A1BC-4B3BA9ED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5187D-F664-42AE-8503-8C91C040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567-8B39-4FC2-B0AD-3586E3CD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74DC1-EE2E-4805-95E0-316C8A96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8DD4A-99EB-4276-841B-A19C1201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F2941-0077-4C33-8925-851A3E75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048CD-A1C6-43F4-A10C-6B6D8C68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AF2BF-66E8-44A4-BF47-1FD6866E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50550-D26B-45BA-80F3-DBDD3FFF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8E4E8-BD6F-4A84-8C2F-1C30A377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83371-22CF-43BC-A7EA-4EC08BBE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ED536-34EB-49C0-A5C6-18401911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61BF9-E493-45E9-87F1-70259724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F59E-BFCB-49D2-8159-27EA335B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1620B-FFC5-4E93-BEBA-CA75B310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30FE2-4F12-47C3-AB6F-276E85EA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FDA6C-FB43-4825-83BA-15C2446D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57C78-51B6-43B9-B563-C68EB560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501BF-ECDE-4ACC-A82F-D2BF96E4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7DAA5-B841-495C-985F-C3AAC346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3ABD6-41E2-4A11-8E37-A4B8F7E9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DAE39-52E1-4183-8829-223F60E5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644A7-6BA9-4C7A-A9D2-FFD05A76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7F1CD-C76E-471E-BD0F-1D8354D8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3C69-172E-48A5-AF45-E6FE405D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71F22-6FC1-4864-9738-810DAE03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B824C-42B5-4D05-A3A4-F3F862BB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410A8-0464-4657-853E-ECD05345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E0BFD-E884-4628-AD20-32992C28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7BC56-3906-4FD0-979A-16B7ADC9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D7A5D-8E51-431F-9982-C71B1638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01CBC-8F80-4C96-A2BA-EB374135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D284D-E84B-4914-9FF5-2A9EA421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1C05F-FCDB-46B2-9F3F-0423E7E6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0510A-2636-4BDD-8C8C-C250DF7E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0B8E-BACF-4F6B-AE1F-3BE2A104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BE6B1-DD4D-49EF-B7D0-5438F6A4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55790-A309-4595-9F52-C8D24177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A588B6-5BFB-4217-BEBA-D0E1DAAE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7BB34-44C7-4CC9-997D-C296335D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E88F3-F409-485E-9263-17002800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608A60-0267-4B99-9FB7-5DCA1C78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31D90-3B99-405B-9DCB-3A7E536B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B7B54-23C9-4571-B490-0FEA357B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0E5265-09F9-4142-A390-7406A872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F4E4BC-3510-4C7E-BEBB-3C51D45E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9E7D-374B-4062-903D-69C34AEB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B5A020-291A-4A09-9C16-64BD16A8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D23E4-FE27-4A19-B4CC-17B04B42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B56FDD-5534-4E56-9EF7-7D05783A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7765C7-3CC7-45C8-A589-4AF20401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1D6655-8E01-42C6-B106-4576ACE1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1EBB6-32BF-42A7-9FB9-51BD808A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8C6EF1-D541-4531-A46D-9860AF69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5EA82-1FA1-4796-B08D-D9F78778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8224A-FA1D-43B0-B2C7-5B390912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633E20-A1E8-4F44-B922-EC64650D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8ADA-9A38-4D49-B7D7-837799E4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9258D0-1723-4EC4-A04F-31CDD13D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37DA19-1571-4976-BB5C-5A69B14B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B5B91F-A2BC-4B18-B990-D5AF2A0C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4EA497-5FEE-476E-874B-2090BC71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4B1E3C-E8DB-441E-80E5-E5CC658C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40BAD2-8B52-48BA-8F27-742EEE6F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7342D6-0C93-4598-8E29-B151ABAD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D24E3-AB3F-4884-B74A-B1939DC4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C317E0-DF92-4E04-B250-1FD4219A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ECB5B7-9067-4F34-B345-DBEF7F16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623D-3579-401C-8B6B-A0DE5D18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1144D-1C7D-492C-AAD7-E703F161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781B61-8DE2-4445-B42C-B1198775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A2018D-DD73-4A29-8A67-09CF1CE5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14AEA7-F407-49CB-B6D8-6003E999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E3D6F6-0D12-4E2C-A4D1-863F58D3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F3678D-6C71-45AC-A1ED-F029691B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18E0DB-8304-49BD-A226-4AE8EE9D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2A44DF-2305-4915-85AD-E8E496C4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B51B72-D2B6-45BE-8D4C-A3A40929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06E626-DBE3-4C63-8FAC-B62D49ED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4DAE-1F68-4170-9073-A10EDD6D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32AAFB-03FF-4CF8-A382-81C753B8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FA58E7-FAA8-4DAF-A07F-5A14DA0F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48ADE-9CE0-48D5-869E-4C0275EA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F85D61-926D-4C7A-BDD8-40703361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2ED695-A858-4D1F-919A-CCA7C1DA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CA7F7-81AC-4406-AEF9-404109EB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41589C-A550-41EC-B594-DD2E0D5D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0BD5F7-5B81-44C0-B74D-B8B28A64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37B2E-F7D4-4DC8-9799-809AA0D6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6D0E05-7585-423A-94DE-DDB5E2C7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762-D7CF-4AE3-A14A-945218EF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4D82-7CEC-4953-8B2D-AD693275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496448-AE15-4A1E-989E-19858185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18E8A4-FEAB-4037-B18E-349472A5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8C0DFE-92AA-422C-881E-66DD6AEF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DD177E-6C9A-4E8F-B563-FC35B9B9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2DE67B-C543-4B49-91CC-0D0A45C2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D14976-5E82-4C9B-AF16-F04FFD00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D32B79-112E-49EA-9785-0F0AFD0E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0CA0A2-D05E-4AEA-AEB0-DD3F85DC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18A473-F91C-4CE9-A1D3-8C0D1AD8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25D543-10AE-4D73-8D89-DB0699E6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9238-9552-4F4C-A65C-742B8BF2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F15FC3-FCF4-4641-A1D6-3CA6A742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638596-0641-4644-87BD-0AF75B0D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D2056B-1B22-4AFF-8CC0-708B9771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9AA62F-2B40-4B8B-B0CF-6C8C6E87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0F7D74-4906-4212-A2D2-4C9D508A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E17F02-3777-4536-AE3D-E532CC1D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CE674E-C0CA-42C9-8AF2-85FB6737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1B1448-13B0-4019-82F4-3ACF87DF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7FC79F-099C-4A66-9F0D-8798BE16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FFBE52-0C89-41DE-A78A-C0F8A53A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9327-A18B-44F8-88CF-D452D846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277A1C-CDF0-412C-B9ED-4168C42B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8C5CD1-1B22-431D-861D-778EBD50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5DFBC9-F3BE-45E9-84C3-CD1CED0C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31C23E-E0D2-47BD-812E-245F5442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E8B45B-9AFF-41DF-9689-ADD3C03D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5C87FA-66BA-4BA8-94A9-B58E4BC1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AB82CC-2FCF-41AB-A3FC-55B5EBA5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CAB4BF-34A6-4E80-AE97-1CB92F46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F67A4F-7A9A-4200-96D2-E453B188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AF97AD-F341-4BC0-977B-CA1BAE06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D443-4E02-4004-A8D8-C4DF6DF9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27331A-2424-4490-92FE-0F4497F2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20E0EF-1EB3-4B64-BEFF-79D72B0A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B0C388-8798-418B-9785-1E745BA0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93E382-0B48-442F-AC80-FDCD8532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436DF4-3D39-4AA3-B97A-4D7B5FA8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7F5105-3561-4C32-BCEF-BDFAD3FF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EB033D-284C-47F9-BDA6-6F2066CD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945198-D7F4-4993-BD98-18F7F9B8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5DF948-34AB-40C5-8A18-05A7C45A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23D90E-BA8F-4B98-BD06-407EA5C7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8D72-B6B7-4A5C-9BC2-59FF0E12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711AB7-7866-4F5B-9FE4-F09801C3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85064-A120-48F5-AA3A-AE7C6F83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75142-6612-4497-9931-2AE3FE09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40EA2-7EE8-4A29-9824-4F1A54E5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3C09-BA80-4C15-ACB6-13DD8485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095B-A79D-4726-A5BE-12FA1AE6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DBD-D0A1-46E7-9606-E190AA10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57DF6-4472-4DC7-BAEA-366D3854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C2F68-5E43-4E39-A4E8-446C1DF1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40491-AEFE-4C8B-A9C5-5F267632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37F61-D9AA-4A22-9D44-E9E76361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4CB02-FD5F-4A0C-BF0D-8365662E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C64E0-3EC0-483E-875C-E1E075A2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CF283-7511-4966-A73C-AF7D30DC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4DD854-A2B5-45FD-86B5-A17B0F95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A1EC3C-AF6D-47D9-9198-6507DB06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4A3377-E0C4-431A-92B8-832ED1B1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670-B5A6-49D6-BE0F-CA817959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E2BCD-8630-4711-B8F3-6B3E6BA1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6B9169-2866-4B96-9977-DB795102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58C3D7-F4F0-4B66-AE31-78347CC0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3F444-A16E-4B27-952D-E987ACFA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532BC8-D36B-4F6C-B5C6-AC9B68FE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997F5B-1A24-49E5-895A-D1D14D3D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35C8C-30D9-482E-BCE7-2A65665C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5F0FE0-88D6-415C-A761-4BE2AB95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55DB80-0A6C-420B-ACE0-01475343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8E985-B876-49D0-BA1E-C9A1D368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41E-9F73-4B8C-85D4-E360F988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EDF6C-EA2B-487E-B2A7-0FC9508E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857F2-D968-4F9D-84CC-5F1948CD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80BE1-25EC-4E6E-AF7E-F28CCE97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6E89D-9D5D-4DB6-A728-42CD65EE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62E8D-748E-4392-B615-E96FE925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FBDAA-324E-40F5-86A7-63C86722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49488-9E18-4935-A800-B9E82DC6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37DEE-6A24-4829-83C3-F89459A8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E05FF-98BB-48A8-A5B5-B06CEE07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ED008-F08D-4DA0-A52F-92F2F9FC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84C-C03C-41FE-BFAB-4B92F36A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BED5E-EEEA-4B36-B1C6-6097FCC1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DA59A-4237-4CCD-B0CF-08E8ADE4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8C13B-230E-46D7-BC1E-2187D592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1C53C-1C36-4EC1-AF8A-02557458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54E64-26C5-4A71-A3CC-7D6438A0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05019-5F72-41D9-AEE9-80932A85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DB2CB-8AF0-452E-921E-969C11D3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67FCF-2B2A-438F-B719-AB9AF336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3C511-D931-4794-A9A4-A3338FC5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F1B74-AFF4-42D7-B34E-C6B34F2E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681-0DCE-4FE6-B5D1-471BF1C8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E88DB-64E1-49D3-BE66-993FBAD5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D25CE-CA1B-4156-940D-B33E9EEF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0DD55-C39C-4AF0-BC6D-DAA28056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293FB-971B-4F41-9BEC-6C862D53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5D116-6BC6-478E-A79F-5077A43C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6EF10-2F87-48E4-9508-D6AD6DAA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A231A-E22C-4BF3-AA4F-859536E9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0C62D-9A69-4A87-A102-ED7CF8B9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4FC97-A7BB-402D-B2F7-FA61E0B9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FEC3A-4C63-4D5F-A9AC-9E8E3AE2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8D9-DAFE-40E6-A806-B490BC12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7AD7C-8A00-4924-96E4-BF778669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FFB56-014E-427F-909F-3690E27B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B7860-EF5A-4E82-91B8-B6E9B87A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169F7-381F-44AA-A566-6B907F31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B7E15-E890-4349-833C-4205531E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08E8D-F28D-4F4C-B587-7CD12C83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194D2-A908-467F-9955-C8ED09A4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1A37A-3A82-43FC-BE04-C7C98174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74A63-EFD3-4232-9311-52D22C52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C3110-8D2F-4593-B918-89D5DC99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ADE-BD83-48AB-883C-D7A8C285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31927-DFAF-4E9E-ABD0-0C204663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17A6C-BCDB-4CF9-AE25-353E32FE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7667C-94A2-46A6-9564-19C4530F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98F60-F2A3-4EEC-9478-9B2B1604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D6755-01B3-40B0-B24D-2190BA0A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5143D-B863-46D3-A1A5-F4BF960D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F04BC-5869-402A-8EDD-637B90AA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E680B-2A60-4C1D-86DD-1FF088B2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BD71D-0827-48FF-9F7E-4D88A201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38EB5-F512-46AF-BEB7-83958331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BEAC-0DE8-465F-838F-4219B436DC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5539-7EBC-4BBA-9CAC-22FFDE033C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5CAA-C554-4FC5-BE45-49429ED96A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2EEA-BC53-460F-B617-D5CE6817CF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ED55-6414-4B24-B653-B2870BAE2C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E53A-C6A3-41F1-BC02-ABC936CCA8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DA8C-061D-45AA-96A1-80EC4A655E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527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534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535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557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558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580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6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587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588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591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594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00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522A-F8C4-4AEA-85FE-CDD160ABB1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E6D0-3734-440E-B99E-029A622F51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DA3F-D1CA-44A6-91D2-D6451FF770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2FD2-0BE0-4B33-9095-74C7290276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21F7-FE50-4651-ADBA-8DF9958CA0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519B-2524-4771-A942-B20E9B42D1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C867-64AF-4BE8-AD5D-7460220DCA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FF03-31D7-48B5-86FB-581F9BC2D6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E1D3-7D8B-4C22-A197-98A4CCCDD1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0A8E-E52B-441C-8C2B-C49EE1ED14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827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08DC-26BB-4E4D-9E36-47D5463D7E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9CEE-6736-4919-85BD-F4DAEF5E88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A8CE-4DB7-4E74-BBD5-AB4937B5A7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52D7-D4E5-4FB8-95AF-369AFFFE63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B1B4-24A9-4D10-9734-313ECA5A3B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2F76-6051-452D-8486-D2BD31FEA7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58F0-2ED4-405D-B9F8-5ED6179E6A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DCC5-3D80-4E65-9364-A92BAEA83C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E50B-4ABE-4AA2-A0FE-B2372A32BD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214D-00D7-4AA2-8961-64FADEFB2F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A1F8-1BFA-4B2C-8511-F6D4508543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57A7-21B6-40C7-B005-A392619EFF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1560-C705-4AB2-998E-ABE3375D90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099E-49CC-4718-B108-8241711C2C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79A0-5566-484E-A263-2DDD808D72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B90E-4C1D-43CF-A759-DB6101B4B3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F06B-4C20-4FE5-B544-6C2983D8D4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A56E-0539-4A4D-8D0D-5D77198DE4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C635-E606-4A05-8FED-A144FFEFAF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5166-19C1-4950-AF41-ECF64BB2D7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5C65-A10B-473B-B46D-F38FADE0B8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8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1" descr="QQ图片20200803160828"/>
          <p:cNvPicPr/>
          <p:nvPr/>
        </p:nvPicPr>
        <p:blipFill>
          <a:blip r:embed="rId1"/>
          <a:stretch/>
        </p:blipFill>
        <p:spPr>
          <a:xfrm>
            <a:off x="149400" y="1373040"/>
            <a:ext cx="84675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69633" descr=""/>
          <p:cNvPicPr/>
          <p:nvPr/>
        </p:nvPicPr>
        <p:blipFill>
          <a:blip r:embed="rId1"/>
          <a:stretch/>
        </p:blipFill>
        <p:spPr>
          <a:xfrm>
            <a:off x="357120" y="1776240"/>
            <a:ext cx="8429760" cy="33055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395280" y="2878200"/>
            <a:ext cx="8209080" cy="3189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468360" y="3284640"/>
            <a:ext cx="8209080" cy="5047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8209080" cy="3193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539640" y="4221000"/>
            <a:ext cx="8209080" cy="3193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539640" y="4594320"/>
            <a:ext cx="8209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68609" descr=""/>
          <p:cNvPicPr/>
          <p:nvPr/>
        </p:nvPicPr>
        <p:blipFill>
          <a:blip r:embed="rId1"/>
          <a:stretch/>
        </p:blipFill>
        <p:spPr>
          <a:xfrm>
            <a:off x="352440" y="1442880"/>
            <a:ext cx="8439120" cy="39722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539640" y="4246560"/>
            <a:ext cx="8209080" cy="3189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468360" y="4640400"/>
            <a:ext cx="8209080" cy="3189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468360" y="5013360"/>
            <a:ext cx="8209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0428" descr=""/>
          <p:cNvPicPr/>
          <p:nvPr/>
        </p:nvPicPr>
        <p:blipFill>
          <a:blip r:embed="rId1"/>
          <a:stretch/>
        </p:blipFill>
        <p:spPr>
          <a:xfrm>
            <a:off x="223920" y="723960"/>
            <a:ext cx="8696160" cy="54100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5148360" y="105264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6372360" y="141300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1979640" y="1773360"/>
            <a:ext cx="1079640" cy="3189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8172360" y="2146320"/>
            <a:ext cx="360360" cy="318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3635280" y="251784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6608880" y="288612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3059280" y="3225960"/>
            <a:ext cx="433080" cy="3189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3492360" y="3586320"/>
            <a:ext cx="433440" cy="3189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1476360" y="3959280"/>
            <a:ext cx="719280" cy="3189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946080" y="4699080"/>
            <a:ext cx="433440" cy="3189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3"/>
          <a:stretch/>
        </p:blipFill>
        <p:spPr>
          <a:xfrm>
            <a:off x="2700360" y="4699080"/>
            <a:ext cx="433440" cy="318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4"/>
          <a:stretch/>
        </p:blipFill>
        <p:spPr>
          <a:xfrm>
            <a:off x="4440240" y="4678200"/>
            <a:ext cx="433440" cy="3193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5"/>
          <a:stretch/>
        </p:blipFill>
        <p:spPr>
          <a:xfrm>
            <a:off x="3398760" y="5419800"/>
            <a:ext cx="433440" cy="318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6"/>
          <a:stretch/>
        </p:blipFill>
        <p:spPr>
          <a:xfrm>
            <a:off x="5435640" y="5432400"/>
            <a:ext cx="433440" cy="318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7"/>
          <a:stretch/>
        </p:blipFill>
        <p:spPr>
          <a:xfrm>
            <a:off x="1763640" y="5792760"/>
            <a:ext cx="4334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图片 59410" descr=""/>
          <p:cNvPicPr/>
          <p:nvPr/>
        </p:nvPicPr>
        <p:blipFill>
          <a:blip r:embed="rId1"/>
          <a:stretch/>
        </p:blipFill>
        <p:spPr>
          <a:xfrm>
            <a:off x="176040" y="990720"/>
            <a:ext cx="8791920" cy="48765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2"/>
          <a:stretch/>
        </p:blipFill>
        <p:spPr>
          <a:xfrm>
            <a:off x="3344760" y="1341360"/>
            <a:ext cx="650880" cy="3193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3"/>
          <a:stretch/>
        </p:blipFill>
        <p:spPr>
          <a:xfrm>
            <a:off x="4884840" y="256536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4"/>
          <a:stretch/>
        </p:blipFill>
        <p:spPr>
          <a:xfrm>
            <a:off x="7812000" y="255276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5"/>
          <a:stretch/>
        </p:blipFill>
        <p:spPr>
          <a:xfrm>
            <a:off x="2700360" y="378936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6"/>
          <a:stretch/>
        </p:blipFill>
        <p:spPr>
          <a:xfrm>
            <a:off x="8244000" y="449568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7"/>
          <a:stretch/>
        </p:blipFill>
        <p:spPr>
          <a:xfrm>
            <a:off x="8218440" y="489096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8"/>
          <a:stretch/>
        </p:blipFill>
        <p:spPr>
          <a:xfrm>
            <a:off x="8244000" y="5541840"/>
            <a:ext cx="5032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图片 58373" descr=""/>
          <p:cNvPicPr/>
          <p:nvPr/>
        </p:nvPicPr>
        <p:blipFill>
          <a:blip r:embed="rId1"/>
          <a:stretch/>
        </p:blipFill>
        <p:spPr>
          <a:xfrm>
            <a:off x="176040" y="1066680"/>
            <a:ext cx="8791920" cy="47246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2"/>
          <a:stretch/>
        </p:blipFill>
        <p:spPr>
          <a:xfrm>
            <a:off x="8244000" y="10526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3"/>
          <a:stretch/>
        </p:blipFill>
        <p:spPr>
          <a:xfrm>
            <a:off x="8244000" y="148428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4"/>
          <a:stretch/>
        </p:blipFill>
        <p:spPr>
          <a:xfrm>
            <a:off x="4140360" y="2205000"/>
            <a:ext cx="502920" cy="31896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5"/>
          <a:stretch/>
        </p:blipFill>
        <p:spPr>
          <a:xfrm>
            <a:off x="4500720" y="2924280"/>
            <a:ext cx="502920" cy="31896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6"/>
          <a:stretch/>
        </p:blipFill>
        <p:spPr>
          <a:xfrm>
            <a:off x="3924360" y="400536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7"/>
          <a:stretch/>
        </p:blipFill>
        <p:spPr>
          <a:xfrm>
            <a:off x="6800760" y="4894200"/>
            <a:ext cx="5032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图片 57352" descr=""/>
          <p:cNvPicPr/>
          <p:nvPr/>
        </p:nvPicPr>
        <p:blipFill>
          <a:blip r:embed="rId1"/>
          <a:stretch/>
        </p:blipFill>
        <p:spPr>
          <a:xfrm>
            <a:off x="142920" y="1081080"/>
            <a:ext cx="8858160" cy="469584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2"/>
          <a:stretch/>
        </p:blipFill>
        <p:spPr>
          <a:xfrm>
            <a:off x="8028000" y="10526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3"/>
          <a:stretch/>
        </p:blipFill>
        <p:spPr>
          <a:xfrm>
            <a:off x="755640" y="4390920"/>
            <a:ext cx="1871640" cy="31932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4"/>
          <a:stretch/>
        </p:blipFill>
        <p:spPr>
          <a:xfrm>
            <a:off x="539640" y="4941720"/>
            <a:ext cx="1871640" cy="31932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5"/>
          <a:stretch/>
        </p:blipFill>
        <p:spPr>
          <a:xfrm>
            <a:off x="3348000" y="4292640"/>
            <a:ext cx="2376360" cy="50472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6"/>
          <a:stretch/>
        </p:blipFill>
        <p:spPr>
          <a:xfrm>
            <a:off x="3132000" y="4869000"/>
            <a:ext cx="1871640" cy="31896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7"/>
          <a:stretch/>
        </p:blipFill>
        <p:spPr>
          <a:xfrm>
            <a:off x="3132000" y="5241960"/>
            <a:ext cx="1871640" cy="31896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8"/>
          <a:stretch/>
        </p:blipFill>
        <p:spPr>
          <a:xfrm>
            <a:off x="5940360" y="4390920"/>
            <a:ext cx="3024360" cy="31932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9"/>
          <a:stretch/>
        </p:blipFill>
        <p:spPr>
          <a:xfrm>
            <a:off x="5867280" y="4869000"/>
            <a:ext cx="3024360" cy="31896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10"/>
          <a:stretch/>
        </p:blipFill>
        <p:spPr>
          <a:xfrm>
            <a:off x="5867280" y="5288040"/>
            <a:ext cx="3024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图片 56324" descr=""/>
          <p:cNvPicPr/>
          <p:nvPr/>
        </p:nvPicPr>
        <p:blipFill>
          <a:blip r:embed="rId1"/>
          <a:stretch/>
        </p:blipFill>
        <p:spPr>
          <a:xfrm>
            <a:off x="514440" y="1852560"/>
            <a:ext cx="8115120" cy="315288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2663640" cy="31896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2663640" cy="3189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" descr=""/>
          <p:cNvPicPr/>
          <p:nvPr/>
        </p:nvPicPr>
        <p:blipFill>
          <a:blip r:embed="rId4"/>
          <a:stretch/>
        </p:blipFill>
        <p:spPr>
          <a:xfrm>
            <a:off x="539640" y="4378320"/>
            <a:ext cx="2664000" cy="3189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" descr=""/>
          <p:cNvPicPr/>
          <p:nvPr/>
        </p:nvPicPr>
        <p:blipFill>
          <a:blip r:embed="rId5"/>
          <a:stretch/>
        </p:blipFill>
        <p:spPr>
          <a:xfrm>
            <a:off x="4284720" y="3573360"/>
            <a:ext cx="4248000" cy="5032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" descr=""/>
          <p:cNvPicPr/>
          <p:nvPr/>
        </p:nvPicPr>
        <p:blipFill>
          <a:blip r:embed="rId6"/>
          <a:stretch/>
        </p:blipFill>
        <p:spPr>
          <a:xfrm>
            <a:off x="3922560" y="4135320"/>
            <a:ext cx="2664000" cy="3193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7"/>
          <a:stretch/>
        </p:blipFill>
        <p:spPr>
          <a:xfrm>
            <a:off x="3851280" y="4508640"/>
            <a:ext cx="2664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图片 55300" descr=""/>
          <p:cNvPicPr/>
          <p:nvPr/>
        </p:nvPicPr>
        <p:blipFill>
          <a:blip r:embed="rId1"/>
          <a:stretch/>
        </p:blipFill>
        <p:spPr>
          <a:xfrm>
            <a:off x="190440" y="204840"/>
            <a:ext cx="8763120" cy="64483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2"/>
          <a:stretch/>
        </p:blipFill>
        <p:spPr>
          <a:xfrm>
            <a:off x="2484360" y="99360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3"/>
          <a:stretch/>
        </p:blipFill>
        <p:spPr>
          <a:xfrm>
            <a:off x="3635280" y="101448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4"/>
          <a:stretch/>
        </p:blipFill>
        <p:spPr>
          <a:xfrm>
            <a:off x="4572000" y="99360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5"/>
          <a:stretch/>
        </p:blipFill>
        <p:spPr>
          <a:xfrm>
            <a:off x="2050920" y="135396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6"/>
          <a:stretch/>
        </p:blipFill>
        <p:spPr>
          <a:xfrm>
            <a:off x="2700360" y="177336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7"/>
          <a:stretch/>
        </p:blipFill>
        <p:spPr>
          <a:xfrm>
            <a:off x="3851280" y="177336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8"/>
          <a:stretch/>
        </p:blipFill>
        <p:spPr>
          <a:xfrm>
            <a:off x="4859280" y="176040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9"/>
          <a:stretch/>
        </p:blipFill>
        <p:spPr>
          <a:xfrm>
            <a:off x="2268360" y="214632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10"/>
          <a:stretch/>
        </p:blipFill>
        <p:spPr>
          <a:xfrm>
            <a:off x="1476360" y="25052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18" name="图片 55310" descr=""/>
          <p:cNvPicPr/>
          <p:nvPr/>
        </p:nvPicPr>
        <p:blipFill>
          <a:blip r:embed="rId11"/>
          <a:stretch/>
        </p:blipFill>
        <p:spPr>
          <a:xfrm>
            <a:off x="4970520" y="3254400"/>
            <a:ext cx="3933720" cy="25909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12"/>
          <a:stretch/>
        </p:blipFill>
        <p:spPr>
          <a:xfrm>
            <a:off x="3851280" y="40514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13"/>
          <a:stretch/>
        </p:blipFill>
        <p:spPr>
          <a:xfrm>
            <a:off x="1042920" y="5576760"/>
            <a:ext cx="1800360" cy="3193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14"/>
          <a:stretch/>
        </p:blipFill>
        <p:spPr>
          <a:xfrm>
            <a:off x="2170080" y="6359400"/>
            <a:ext cx="5032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54276" descr=""/>
          <p:cNvPicPr/>
          <p:nvPr/>
        </p:nvPicPr>
        <p:blipFill>
          <a:blip r:embed="rId1"/>
          <a:stretch/>
        </p:blipFill>
        <p:spPr>
          <a:xfrm>
            <a:off x="214200" y="892080"/>
            <a:ext cx="8715600" cy="57056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900000" y="2001960"/>
            <a:ext cx="7775640" cy="3189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755640" y="2362320"/>
            <a:ext cx="7775640" cy="318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755640" y="2759040"/>
            <a:ext cx="7775640" cy="3189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755640" y="3154320"/>
            <a:ext cx="7775640" cy="3189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6"/>
          <a:stretch/>
        </p:blipFill>
        <p:spPr>
          <a:xfrm>
            <a:off x="826920" y="4665600"/>
            <a:ext cx="7775640" cy="319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7"/>
          <a:stretch/>
        </p:blipFill>
        <p:spPr>
          <a:xfrm>
            <a:off x="684360" y="5084640"/>
            <a:ext cx="7775280" cy="3193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8"/>
          <a:stretch/>
        </p:blipFill>
        <p:spPr>
          <a:xfrm>
            <a:off x="684360" y="5445000"/>
            <a:ext cx="7775280" cy="319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9"/>
          <a:stretch/>
        </p:blipFill>
        <p:spPr>
          <a:xfrm>
            <a:off x="684360" y="5864400"/>
            <a:ext cx="7991280" cy="3189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10"/>
          <a:stretch/>
        </p:blipFill>
        <p:spPr>
          <a:xfrm>
            <a:off x="755640" y="6249960"/>
            <a:ext cx="79916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52231" descr=""/>
          <p:cNvPicPr/>
          <p:nvPr/>
        </p:nvPicPr>
        <p:blipFill>
          <a:blip r:embed="rId1"/>
          <a:stretch/>
        </p:blipFill>
        <p:spPr>
          <a:xfrm>
            <a:off x="361800" y="1047600"/>
            <a:ext cx="8420400" cy="47628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7993080" cy="318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539640" y="2133720"/>
            <a:ext cx="7993080" cy="318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539640" y="2492280"/>
            <a:ext cx="7993080" cy="319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5"/>
          <a:stretch/>
        </p:blipFill>
        <p:spPr>
          <a:xfrm>
            <a:off x="539640" y="2852640"/>
            <a:ext cx="7993080" cy="319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6"/>
          <a:stretch/>
        </p:blipFill>
        <p:spPr>
          <a:xfrm>
            <a:off x="611280" y="4292640"/>
            <a:ext cx="7993080" cy="3189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7"/>
          <a:stretch/>
        </p:blipFill>
        <p:spPr>
          <a:xfrm>
            <a:off x="539640" y="4653000"/>
            <a:ext cx="7993080" cy="3189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8"/>
          <a:stretch/>
        </p:blipFill>
        <p:spPr>
          <a:xfrm>
            <a:off x="539640" y="5025960"/>
            <a:ext cx="7993080" cy="3193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9"/>
          <a:stretch/>
        </p:blipFill>
        <p:spPr>
          <a:xfrm>
            <a:off x="539640" y="5432400"/>
            <a:ext cx="7993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3T08:10:1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